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01D-F451-4167-9B7D-E07F28B3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898-7753-4FCC-8617-8102B36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B01-0AF7-4DED-B882-76EEA5CE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FE6-E8C4-4828-A9B6-B3A647D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3793-A3CF-4BCE-BADB-973FC05B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3070-8FD8-43D6-B9F1-D05FF460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9796-428E-430B-8B4D-16C67B12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A4AE-F638-4111-A61B-1FBFF9D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954-7A78-4AB4-B5D8-4499398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FABF-478A-459D-95E8-AB443DC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A48-72A3-4FBC-A45E-6249412C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230-4900-4AA1-A0A2-1A3AFED1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1B20-9541-4548-BF14-068DA93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093F-79FC-46BE-82A2-AEB5E89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235-EC97-4815-B9DB-5E00121A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7A2-35B7-4245-87EF-3D921304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3C5B-2C9B-4729-AA55-D3BE344E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1BC4E-FB66-4D4F-B477-8C5E036D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DCA87-AE7A-4065-B3B7-60576B4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7778F-7373-420C-B296-1B66CA1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08012-6BE6-4648-8C7C-2B5AD6E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B1432-0DF8-44F5-B816-FC7AEA0F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805-5B42-44FC-8FDF-C703E15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53AE0-7564-4D3B-AFE2-47D17711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B9728-1CDA-4167-9D6B-173A5DE0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1233C-8C31-4DA5-8CA5-0957D09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1FF54-F2BA-4899-A6C2-DB8A6D7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A0F31-F84F-4F02-A427-C73A8701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654A2-8133-430E-8F58-EB6E0E46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540A1-8351-4B53-A7EB-0286FC89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BB58-C50B-4982-94D5-5BC7F163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DD1A-97C0-44A0-B917-6E18FC3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30856-00C4-460A-A55F-50926F4A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316-0950-4E9D-9AFE-6D87B71F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31EC-4D95-46BC-B6DA-0449574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A622-B85E-4D27-96CC-B6B7CF5F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6AAE-C965-4ECC-94EC-96A7570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FB00-AB61-4B38-989A-F6B284C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DD93-D0A9-463C-AAFF-787241B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06BD-1DA5-4B5D-95FF-2139549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BE19-D7AB-424A-B392-0A7AE6C9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9F3F-6B8B-4663-8ABD-C43BEC8E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49BF-4C27-4C01-A2F0-6A52DD58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494-4D6D-423B-96D6-DBDD5140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81D-2FF2-455F-8EB6-0D3352F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9B6-482F-4B94-A636-05B3659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284-88C1-4B90-A5FE-03CE147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320-18C9-4549-ADE1-960CA6D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D7E-9B4A-4CF4-8A08-1FD8990FE734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C1E6-C99C-4A85-A7F5-E799BF0066A7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892-E4E4-4982-B7FB-62ACB2D1344B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DC0-A2A3-42ED-AAE1-0D67426414E9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Odejmo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6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7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9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1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22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rostokąt 18" descr=""/>
          <p:cNvPicPr/>
          <p:nvPr/>
        </p:nvPicPr>
        <p:blipFill>
          <a:blip r:embed="rId11"/>
          <a:stretch/>
        </p:blipFill>
        <p:spPr>
          <a:xfrm>
            <a:off x="6735600" y="2571840"/>
            <a:ext cx="2084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2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0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ejmowanie liczb dwu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78 - 23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– 3 = 5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jedności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2 = 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prawność wykonanego odejmowania sprawdzamy za pomocą dodawani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55 + 23 = 7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7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38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0" name="Grupa 25"/>
          <p:cNvGrpSpPr/>
          <p:nvPr/>
        </p:nvGrpSpPr>
        <p:grpSpPr>
          <a:xfrm>
            <a:off x="6875640" y="3573360"/>
            <a:ext cx="1081080" cy="582480"/>
            <a:chOff x="6875640" y="3573360"/>
            <a:chExt cx="1081080" cy="582480"/>
          </a:xfrm>
        </p:grpSpPr>
        <p:sp>
          <p:nvSpPr>
            <p:cNvPr id="241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pole tekstowe 13"/>
            <p:cNvSpPr/>
            <p:nvPr/>
          </p:nvSpPr>
          <p:spPr>
            <a:xfrm>
              <a:off x="7161840" y="37875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Łącznik prostoliniowy 14"/>
            <p:cNvSpPr/>
            <p:nvPr/>
          </p:nvSpPr>
          <p:spPr>
            <a:xfrm>
              <a:off x="6875640" y="40784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pole tekstowe 15"/>
            <p:cNvSpPr/>
            <p:nvPr/>
          </p:nvSpPr>
          <p:spPr>
            <a:xfrm>
              <a:off x="6958800" y="3724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5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6" name="Grupa 3"/>
          <p:cNvGrpSpPr/>
          <p:nvPr/>
        </p:nvGrpSpPr>
        <p:grpSpPr>
          <a:xfrm>
            <a:off x="6872400" y="4805280"/>
            <a:ext cx="1081080" cy="585720"/>
            <a:chOff x="6872400" y="4805280"/>
            <a:chExt cx="1081080" cy="585720"/>
          </a:xfrm>
        </p:grpSpPr>
        <p:sp>
          <p:nvSpPr>
            <p:cNvPr id="247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5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8"/>
            <p:cNvSpPr/>
            <p:nvPr/>
          </p:nvSpPr>
          <p:spPr>
            <a:xfrm>
              <a:off x="7165080" y="5022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Łącznik prostoliniowy 19"/>
            <p:cNvSpPr/>
            <p:nvPr/>
          </p:nvSpPr>
          <p:spPr>
            <a:xfrm>
              <a:off x="6872400" y="5310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pole tekstowe 20"/>
            <p:cNvSpPr/>
            <p:nvPr/>
          </p:nvSpPr>
          <p:spPr>
            <a:xfrm>
              <a:off x="6966000" y="495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1" name="pole tekstowe 23"/>
          <p:cNvSpPr/>
          <p:nvPr/>
        </p:nvSpPr>
        <p:spPr>
          <a:xfrm>
            <a:off x="715536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2" name="Grupa 4"/>
          <p:cNvGrpSpPr/>
          <p:nvPr/>
        </p:nvGrpSpPr>
        <p:grpSpPr>
          <a:xfrm>
            <a:off x="7165080" y="5238720"/>
            <a:ext cx="496080" cy="368280"/>
            <a:chOff x="7165080" y="5238720"/>
            <a:chExt cx="496080" cy="368280"/>
          </a:xfrm>
        </p:grpSpPr>
        <p:sp>
          <p:nvSpPr>
            <p:cNvPr id="253" name="pole tekstowe 21"/>
            <p:cNvSpPr/>
            <p:nvPr/>
          </p:nvSpPr>
          <p:spPr>
            <a:xfrm>
              <a:off x="734940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pole tekstowe 26"/>
            <p:cNvSpPr/>
            <p:nvPr/>
          </p:nvSpPr>
          <p:spPr>
            <a:xfrm>
              <a:off x="716508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5" name="Elipsa 5"/>
          <p:cNvSpPr/>
          <p:nvPr/>
        </p:nvSpPr>
        <p:spPr>
          <a:xfrm>
            <a:off x="7380360" y="357336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Elipsa 27"/>
          <p:cNvSpPr/>
          <p:nvPr/>
        </p:nvSpPr>
        <p:spPr>
          <a:xfrm>
            <a:off x="7192800" y="359244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7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6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78 – 4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433 – 40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8 – 3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48 – 63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0" name="Grupa 18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61" name="Obraz 19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upa 20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63" name="Obraz 33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Elipsa 34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Elipsa 35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66" name="Obraz 21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Obraz 22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Obraz 27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raz 28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Obraz 29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Obraz 30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Obraz 31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Obraz 32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75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741 – 62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1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4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– 2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zapisujemy 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6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w rzędzie setek zapisujemy 1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2 + 629 = 74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 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4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48692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ole tekstowe 27"/>
          <p:cNvSpPr/>
          <p:nvPr/>
        </p:nvSpPr>
        <p:spPr>
          <a:xfrm>
            <a:off x="732060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4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295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1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7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9" name="pole tekstowe 35"/>
          <p:cNvSpPr/>
          <p:nvPr/>
        </p:nvSpPr>
        <p:spPr>
          <a:xfrm>
            <a:off x="7225200" y="61088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Elipsa 32"/>
          <p:cNvSpPr/>
          <p:nvPr/>
        </p:nvSpPr>
        <p:spPr>
          <a:xfrm>
            <a:off x="7570800" y="41511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Elipsa 33"/>
          <p:cNvSpPr/>
          <p:nvPr/>
        </p:nvSpPr>
        <p:spPr>
          <a:xfrm flipH="1">
            <a:off x="7346160" y="4146480"/>
            <a:ext cx="27324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Elipsa 34"/>
          <p:cNvSpPr/>
          <p:nvPr/>
        </p:nvSpPr>
        <p:spPr>
          <a:xfrm>
            <a:off x="7199280" y="4302000"/>
            <a:ext cx="216000" cy="630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36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61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0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7" nodeType="after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15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7 – 1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246 – 3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874 – 56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25 – 1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6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07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09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11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12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3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32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842 – 16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2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bieramy z rzędu setek 1 setkę i zamieniamy na dziesiątki: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6 = 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dziesiątek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setek zapisujemy </a:t>
            </a:r>
            <a:r>
              <a:rPr b="1" lang="pl-PL" sz="1600" spc="-1" strike="noStrike">
                <a:solidFill>
                  <a:srgbClr val="00b0f0"/>
                </a:solidFill>
                <a:latin typeface="Georgia"/>
              </a:rPr>
              <a:t>7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1 = 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9 + 673 = 84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 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6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27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8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9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30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 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1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2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3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34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ole tekstowe 18"/>
          <p:cNvSpPr/>
          <p:nvPr/>
        </p:nvSpPr>
        <p:spPr>
          <a:xfrm>
            <a:off x="749988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ole tekstowe 27"/>
          <p:cNvSpPr/>
          <p:nvPr/>
        </p:nvSpPr>
        <p:spPr>
          <a:xfrm>
            <a:off x="732672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40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341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2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7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3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4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5" name="pole tekstowe 35"/>
          <p:cNvSpPr/>
          <p:nvPr/>
        </p:nvSpPr>
        <p:spPr>
          <a:xfrm>
            <a:off x="764748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ole tekstowe 33"/>
          <p:cNvSpPr/>
          <p:nvPr/>
        </p:nvSpPr>
        <p:spPr>
          <a:xfrm>
            <a:off x="71488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ole tekstowe 34"/>
          <p:cNvSpPr/>
          <p:nvPr/>
        </p:nvSpPr>
        <p:spPr>
          <a:xfrm>
            <a:off x="7425000" y="54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ole tekstowe 36"/>
          <p:cNvSpPr/>
          <p:nvPr/>
        </p:nvSpPr>
        <p:spPr>
          <a:xfrm>
            <a:off x="7209360" y="5423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ole tekstowe 37"/>
          <p:cNvSpPr/>
          <p:nvPr/>
        </p:nvSpPr>
        <p:spPr>
          <a:xfrm>
            <a:off x="741672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ole tekstowe 38"/>
          <p:cNvSpPr/>
          <p:nvPr/>
        </p:nvSpPr>
        <p:spPr>
          <a:xfrm>
            <a:off x="719856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Elipsa 32"/>
          <p:cNvSpPr/>
          <p:nvPr/>
        </p:nvSpPr>
        <p:spPr>
          <a:xfrm>
            <a:off x="7599240" y="4152960"/>
            <a:ext cx="25416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Elipsa 39"/>
          <p:cNvSpPr/>
          <p:nvPr/>
        </p:nvSpPr>
        <p:spPr>
          <a:xfrm>
            <a:off x="7369200" y="4156200"/>
            <a:ext cx="253800" cy="7426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Elipsa 40"/>
          <p:cNvSpPr/>
          <p:nvPr/>
        </p:nvSpPr>
        <p:spPr>
          <a:xfrm>
            <a:off x="7174080" y="41529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57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6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8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9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0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75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2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75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59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75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7 – 49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5 – 16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51 – 76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22 - 34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7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58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60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62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63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9-02T09:35:39Z</dcterms:modified>
  <cp:revision>61</cp:revision>
  <dc:subject/>
  <dc:title>Prezentacja programu PowerPoint</dc:title>
</cp:coreProperties>
</file>